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B2-6B7F-4A06-88E0-2AC8D81D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912-B398-46F1-BAE3-5EB27F06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BFE-4131-4270-A21D-AFF95A2F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F4C-3ECE-4929-ADE4-68D82075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6B8E-B213-49B5-9DE6-75F4BAC1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023D-81A6-4476-8F68-C62A4BD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FB7-8BEA-46BE-BE62-EB88EC8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6892-5D38-436A-8BD4-A56A7AB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3B1-1486-480A-BDBB-0949E61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9D7E-B38B-487F-8153-CE82628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A16-1A9F-478E-BABE-89B60A2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69B-7C5C-4B5F-83CA-AAA672D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C9D7-55C4-4FC4-8AB6-3652EA2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DDF-AF9D-40EA-A03C-C4D0C8C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3DD-A8AE-48F6-B336-F6876FE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76C1-481A-451C-AA6C-FDF27180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38DB-7D4F-44B6-AB3D-BF8B2338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4780-7B39-4964-8A9E-0959EE6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0B92-62E6-492D-9CFE-19A20795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B640-1EDC-4E4A-9791-D4F1FC9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F84A-4A35-4230-887C-9996D98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9634-50A4-4C55-8C1F-E6D7C71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766-0409-4F70-9FF2-DFAAFC22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A516-5E58-42F1-84AD-E01B8B8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9E4A-6D7B-44A6-88D4-377E130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D105-BC16-415A-B842-6ED9184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8E2A-F6BD-4340-AA0F-D7A9B18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1A9E-7F51-46AC-BBDD-561D3ED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ABCE-619C-4211-8373-B49FF019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857B-E80A-422B-99EE-5BE2669F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4BB9-E5CE-40CE-A53B-EFCC6C6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33DB-61D9-45F6-A741-4D5328B3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F831-E1A8-4420-9086-C520C64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3D8-3AAD-4D25-8071-13884B1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607A-731E-4D37-876B-26EDCE4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F344-7B32-4F67-A24C-69535B6A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C36F-8ED9-452F-972E-72BB2617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F9E6-B904-495B-B267-4C17AB8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9660-BBDF-4E78-9C25-57A0460E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F1BA-B852-4FB3-A9A2-DCA0859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DFD6-FB72-4310-8EE7-1C0B6B8D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8E5B-D0A7-4A19-A159-217B8759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B459-5739-4EB4-AC55-4CF58BC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D87-A7EA-4D61-BC3E-C7130AC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613-70E8-4522-8F02-2C1DB3D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E20-5799-41DB-82DB-85C0B76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922-2DE6-4FB4-AE11-D976265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C0E-66EB-483D-97DE-F179011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F7A-AB1A-46DA-9C8F-3B560CCF879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8EE-847A-4CBA-A4B9-618F2F586D82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0A0-B952-43F3-A30F-283566153A5E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7628-E6B4-46ED-9671-0C9C1F7157E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ch Pack In Action : Analyze  a  Scenar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usan Marshall,  Holly Matthews, Tracy Robart, Terra Saulnier, and Cindy Smith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enar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s. Anderson has been teaching Science for 10 years.  She was recently introduced to web-based programs that allow her to teach numerous science units using real world and real time content.  Although she is excited about using the web-based programs, her use of technology in the classroom is limited to using concept mapping on her own computer.  Ms. Anderson has been reading a great deal on the program’s website, but has not found any strategies to use it in her classroom.  At a recent professional development, her colleague showcased  how she had been using the various web- based programs, but Ms. Anderson is still very unsure about how best to use these acti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914400" y="1116000"/>
          <a:ext cx="6858000" cy="505152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2946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ch Pack Componen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is Know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must be learn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pt mapping on her own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e was exposed to various web-base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needs to practice using web-based progr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needs to learn how to teach her students to properly use web-based progr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dag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has not found any strategies to use in her classro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Needs support from her colleague in order to successfully implement web-base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23880" y="1397160"/>
          <a:ext cx="6858000" cy="264132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2946240"/>
              </a:tblGrid>
              <a:tr h="26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 She knows the Science curriculum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 The Teacher and the students to be competent in implementing these programs in their science uni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ome contextual issues Ms. Anderson must address to implement this new strategy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ing the students to the properly use a web-based progr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ing the students the purpose for using these web-based pr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ake sure the project doesn’t become an “information locating” exercise, it should call for higher level tasks after the students find the inform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ocus should be on curriculum not necessarily the web-based activ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ome logistical issues Ms. Anderson must address to implement this new strategy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s. Anderson must make sure her class has access to the computer la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have access to internet on all computers and a back up plan should be available if this is not work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ailability of her colleague for support if issues ar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ings of her students- how will they complete the activit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4:48:20Z</dcterms:created>
  <dc:creator>susan marshall</dc:creator>
  <dc:description/>
  <dc:language>en-US</dc:language>
  <cp:lastModifiedBy>Mike</cp:lastModifiedBy>
  <dcterms:modified xsi:type="dcterms:W3CDTF">2012-07-23T22:44:00Z</dcterms:modified>
  <cp:revision>12</cp:revision>
  <dc:subject/>
  <dc:title>Chapter 6 Activity 4</dc:title>
</cp:coreProperties>
</file>